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57B-16FE-42C2-B82D-DFF8B4E2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BC7-4BD7-4F76-B373-6C2A00C9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76C-96AD-4C5A-A325-2DF54EE2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A4E-CFE3-4066-AC95-0609B875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7A6-A99B-4DD9-BD2D-46C5A14A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D11-25B3-4A51-A473-B832C32F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322-2610-45BC-AFD5-3CB97057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917-9819-4C9C-9F57-B2BA5A78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767-DC7C-42EE-8F3F-267678B3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49B-8A5B-42EB-8345-D0C8C2B0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A3A-285A-4B21-B04C-F9564E2E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65C-8B0F-45BA-A25E-207F2038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EB96-95F2-48A6-9CAC-872A39B4D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ding Music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read musical rhythms and pitches and play them on an instru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14800" y="5105520"/>
            <a:ext cx="4648320" cy="144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3200400"/>
            <a:ext cx="7162920" cy="1752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219320"/>
            <a:ext cx="3733920" cy="167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Count the beats and identify the rhyth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172200" y="5715000"/>
            <a:ext cx="533520" cy="152280"/>
            <a:chOff x="6172200" y="5715000"/>
            <a:chExt cx="533520" cy="152280"/>
          </a:xfrm>
        </p:grpSpPr>
        <p:sp>
          <p:nvSpPr>
            <p:cNvPr id="48" name=""/>
            <p:cNvSpPr/>
            <p:nvPr/>
          </p:nvSpPr>
          <p:spPr>
            <a:xfrm>
              <a:off x="6290640" y="5715000"/>
              <a:ext cx="296280" cy="1522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72200" y="5867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619760" y="5714640"/>
            <a:ext cx="533160" cy="152280"/>
            <a:chOff x="7619760" y="5714640"/>
            <a:chExt cx="533160" cy="152280"/>
          </a:xfrm>
        </p:grpSpPr>
        <p:sp>
          <p:nvSpPr>
            <p:cNvPr id="51" name=""/>
            <p:cNvSpPr/>
            <p:nvPr/>
          </p:nvSpPr>
          <p:spPr>
            <a:xfrm rot="10800000">
              <a:off x="7738560" y="5714640"/>
              <a:ext cx="295920" cy="1522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619760" y="5714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67280" y="3733560"/>
            <a:ext cx="1166760" cy="838080"/>
            <a:chOff x="5867280" y="3733560"/>
            <a:chExt cx="1166760" cy="838080"/>
          </a:xfrm>
        </p:grpSpPr>
        <p:sp>
          <p:nvSpPr>
            <p:cNvPr id="54" name=""/>
            <p:cNvSpPr/>
            <p:nvPr/>
          </p:nvSpPr>
          <p:spPr>
            <a:xfrm>
              <a:off x="6048360" y="3733920"/>
              <a:ext cx="86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5867280" y="3733560"/>
              <a:ext cx="1166760" cy="838080"/>
              <a:chOff x="5867280" y="3733560"/>
              <a:chExt cx="1166760" cy="83808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6195960" y="3733560"/>
                <a:ext cx="204840" cy="838080"/>
                <a:chOff x="6195960" y="3733560"/>
                <a:chExt cx="204840" cy="8380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6195960" y="4309920"/>
                  <a:ext cx="204840" cy="26172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6400800" y="3733560"/>
                  <a:ext cx="0" cy="733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5867280" y="3733560"/>
                <a:ext cx="204840" cy="838080"/>
                <a:chOff x="5867280" y="3733560"/>
                <a:chExt cx="204840" cy="8380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5867280" y="4309920"/>
                  <a:ext cx="204840" cy="26172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V="1">
                  <a:off x="6072120" y="3733560"/>
                  <a:ext cx="0" cy="733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6500520" y="3733560"/>
                <a:ext cx="533520" cy="838080"/>
                <a:chOff x="6500520" y="3733560"/>
                <a:chExt cx="533520" cy="838080"/>
              </a:xfrm>
            </p:grpSpPr>
            <p:grpSp>
              <p:nvGrpSpPr>
                <p:cNvPr id="63" name=""/>
                <p:cNvGrpSpPr/>
                <p:nvPr/>
              </p:nvGrpSpPr>
              <p:grpSpPr>
                <a:xfrm>
                  <a:off x="6828840" y="3733560"/>
                  <a:ext cx="205200" cy="838080"/>
                  <a:chOff x="6828840" y="3733560"/>
                  <a:chExt cx="205200" cy="8380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6828840" y="4309920"/>
                    <a:ext cx="205200" cy="261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V="1">
                    <a:off x="7034040" y="3733560"/>
                    <a:ext cx="0" cy="733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500520" y="3733560"/>
                  <a:ext cx="205200" cy="838080"/>
                  <a:chOff x="6500520" y="3733560"/>
                  <a:chExt cx="205200" cy="8380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6500520" y="4309920"/>
                    <a:ext cx="205200" cy="261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V="1">
                    <a:off x="6705720" y="3733560"/>
                    <a:ext cx="0" cy="733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" name=""/>
                <p:cNvSpPr/>
                <p:nvPr/>
              </p:nvSpPr>
              <p:spPr>
                <a:xfrm>
                  <a:off x="6705720" y="3733920"/>
                  <a:ext cx="328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" name=""/>
          <p:cNvGrpSpPr/>
          <p:nvPr/>
        </p:nvGrpSpPr>
        <p:grpSpPr>
          <a:xfrm>
            <a:off x="3352680" y="3733560"/>
            <a:ext cx="533520" cy="838080"/>
            <a:chOff x="3352680" y="3733560"/>
            <a:chExt cx="533520" cy="838080"/>
          </a:xfrm>
        </p:grpSpPr>
        <p:grpSp>
          <p:nvGrpSpPr>
            <p:cNvPr id="71" name=""/>
            <p:cNvGrpSpPr/>
            <p:nvPr/>
          </p:nvGrpSpPr>
          <p:grpSpPr>
            <a:xfrm>
              <a:off x="3681000" y="3733560"/>
              <a:ext cx="205200" cy="838080"/>
              <a:chOff x="3681000" y="3733560"/>
              <a:chExt cx="205200" cy="838080"/>
            </a:xfrm>
          </p:grpSpPr>
          <p:sp>
            <p:nvSpPr>
              <p:cNvPr id="72" name=""/>
              <p:cNvSpPr/>
              <p:nvPr/>
            </p:nvSpPr>
            <p:spPr>
              <a:xfrm>
                <a:off x="3681000" y="4309920"/>
                <a:ext cx="2052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3886200" y="373356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352680" y="3733560"/>
              <a:ext cx="205200" cy="838080"/>
              <a:chOff x="3352680" y="3733560"/>
              <a:chExt cx="205200" cy="838080"/>
            </a:xfrm>
          </p:grpSpPr>
          <p:sp>
            <p:nvSpPr>
              <p:cNvPr id="75" name=""/>
              <p:cNvSpPr/>
              <p:nvPr/>
            </p:nvSpPr>
            <p:spPr>
              <a:xfrm>
                <a:off x="3352680" y="4309920"/>
                <a:ext cx="2052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557880" y="373356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557880" y="3733920"/>
              <a:ext cx="32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85800" y="1447920"/>
            <a:ext cx="380880" cy="1004760"/>
            <a:chOff x="685800" y="1447920"/>
            <a:chExt cx="380880" cy="1004760"/>
          </a:xfrm>
        </p:grpSpPr>
        <p:sp>
          <p:nvSpPr>
            <p:cNvPr id="79" name=""/>
            <p:cNvSpPr/>
            <p:nvPr/>
          </p:nvSpPr>
          <p:spPr>
            <a:xfrm>
              <a:off x="685800" y="1447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1932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828800" y="3733560"/>
            <a:ext cx="228600" cy="838080"/>
            <a:chOff x="1828800" y="3733560"/>
            <a:chExt cx="228600" cy="838080"/>
          </a:xfrm>
        </p:grpSpPr>
        <p:sp>
          <p:nvSpPr>
            <p:cNvPr id="82" name=""/>
            <p:cNvSpPr/>
            <p:nvPr/>
          </p:nvSpPr>
          <p:spPr>
            <a:xfrm>
              <a:off x="1828800" y="4309920"/>
              <a:ext cx="228600" cy="2617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057400" y="3733560"/>
              <a:ext cx="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876560" y="5638680"/>
            <a:ext cx="228960" cy="609480"/>
            <a:chOff x="4876560" y="5638680"/>
            <a:chExt cx="228960" cy="609480"/>
          </a:xfrm>
        </p:grpSpPr>
        <p:grpSp>
          <p:nvGrpSpPr>
            <p:cNvPr id="85" name=""/>
            <p:cNvGrpSpPr/>
            <p:nvPr/>
          </p:nvGrpSpPr>
          <p:grpSpPr>
            <a:xfrm>
              <a:off x="4876560" y="5638680"/>
              <a:ext cx="228960" cy="304560"/>
              <a:chOff x="4876560" y="5638680"/>
              <a:chExt cx="228960" cy="304560"/>
            </a:xfrm>
          </p:grpSpPr>
          <p:sp>
            <p:nvSpPr>
              <p:cNvPr id="86" name=""/>
              <p:cNvSpPr/>
              <p:nvPr/>
            </p:nvSpPr>
            <p:spPr>
              <a:xfrm>
                <a:off x="4876920" y="5638680"/>
                <a:ext cx="2286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876560" y="5790960"/>
                <a:ext cx="22860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876920" y="5867280"/>
                <a:ext cx="22860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4927680" y="5943240"/>
              <a:ext cx="177840" cy="30492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12" y="0"/>
                  </a:moveTo>
                  <a:cubicBezTo>
                    <a:pt x="72" y="12"/>
                    <a:pt x="32" y="24"/>
                    <a:pt x="16" y="48"/>
                  </a:cubicBezTo>
                  <a:cubicBezTo>
                    <a:pt x="0" y="72"/>
                    <a:pt x="0" y="128"/>
                    <a:pt x="16" y="144"/>
                  </a:cubicBezTo>
                  <a:cubicBezTo>
                    <a:pt x="32" y="160"/>
                    <a:pt x="88" y="152"/>
                    <a:pt x="112" y="144"/>
                  </a:cubicBezTo>
                  <a:cubicBezTo>
                    <a:pt x="136" y="136"/>
                    <a:pt x="148" y="116"/>
                    <a:pt x="160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590920" y="14479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5160" y="25146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9760" y="22096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3760" y="32767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9440" y="32767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eamed eighth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8960" y="32767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eamed eighth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2560" y="51814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5400" y="52578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f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41040" y="52578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l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371600"/>
            <a:ext cx="7162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Count the beats and identify the rhyth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90720" y="4114800"/>
            <a:ext cx="5943600" cy="1219320"/>
            <a:chOff x="990720" y="4114800"/>
            <a:chExt cx="5943600" cy="1219320"/>
          </a:xfrm>
        </p:grpSpPr>
        <p:grpSp>
          <p:nvGrpSpPr>
            <p:cNvPr id="102" name=""/>
            <p:cNvGrpSpPr/>
            <p:nvPr/>
          </p:nvGrpSpPr>
          <p:grpSpPr>
            <a:xfrm>
              <a:off x="2819520" y="4572000"/>
              <a:ext cx="533160" cy="152280"/>
              <a:chOff x="2819520" y="4572000"/>
              <a:chExt cx="533160" cy="152280"/>
            </a:xfrm>
          </p:grpSpPr>
          <p:sp>
            <p:nvSpPr>
              <p:cNvPr id="103" name=""/>
              <p:cNvSpPr/>
              <p:nvPr/>
            </p:nvSpPr>
            <p:spPr>
              <a:xfrm>
                <a:off x="2937960" y="4572000"/>
                <a:ext cx="295920" cy="1522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4724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105160" y="4571640"/>
              <a:ext cx="533160" cy="152280"/>
              <a:chOff x="5105160" y="4571640"/>
              <a:chExt cx="533160" cy="152280"/>
            </a:xfrm>
          </p:grpSpPr>
          <p:sp>
            <p:nvSpPr>
              <p:cNvPr id="106" name=""/>
              <p:cNvSpPr/>
              <p:nvPr/>
            </p:nvSpPr>
            <p:spPr>
              <a:xfrm rot="10800000">
                <a:off x="5223960" y="4571640"/>
                <a:ext cx="295920" cy="1522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105160" y="457164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371600" y="4267080"/>
              <a:ext cx="1166760" cy="838080"/>
              <a:chOff x="1371600" y="4267080"/>
              <a:chExt cx="1166760" cy="838080"/>
            </a:xfrm>
          </p:grpSpPr>
          <p:sp>
            <p:nvSpPr>
              <p:cNvPr id="109" name=""/>
              <p:cNvSpPr/>
              <p:nvPr/>
            </p:nvSpPr>
            <p:spPr>
              <a:xfrm>
                <a:off x="1552680" y="4267080"/>
                <a:ext cx="86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1371600" y="4267080"/>
                <a:ext cx="1166760" cy="838080"/>
                <a:chOff x="1371600" y="4267080"/>
                <a:chExt cx="1166760" cy="8380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1700280" y="4267080"/>
                  <a:ext cx="204840" cy="838080"/>
                  <a:chOff x="1700280" y="4267080"/>
                  <a:chExt cx="204840" cy="83808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1700280" y="4843440"/>
                    <a:ext cx="204840" cy="261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V="1">
                    <a:off x="1905120" y="4267080"/>
                    <a:ext cx="0" cy="733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1371600" y="4267080"/>
                  <a:ext cx="204840" cy="838080"/>
                  <a:chOff x="1371600" y="4267080"/>
                  <a:chExt cx="204840" cy="83808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1371600" y="4843440"/>
                    <a:ext cx="204840" cy="261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V="1">
                    <a:off x="1576440" y="4267080"/>
                    <a:ext cx="0" cy="733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2004840" y="4267080"/>
                  <a:ext cx="533520" cy="838080"/>
                  <a:chOff x="2004840" y="4267080"/>
                  <a:chExt cx="533520" cy="838080"/>
                </a:xfrm>
              </p:grpSpPr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2333160" y="4267080"/>
                    <a:ext cx="205200" cy="838080"/>
                    <a:chOff x="2333160" y="4267080"/>
                    <a:chExt cx="205200" cy="83808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333160" y="4843440"/>
                      <a:ext cx="205200" cy="261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 flipV="1">
                      <a:off x="2538360" y="4267080"/>
                      <a:ext cx="0" cy="733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2004840" y="4267080"/>
                    <a:ext cx="205200" cy="838080"/>
                    <a:chOff x="2004840" y="4267080"/>
                    <a:chExt cx="205200" cy="83808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004840" y="4843440"/>
                      <a:ext cx="205200" cy="261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 flipV="1">
                      <a:off x="2210040" y="4267080"/>
                      <a:ext cx="0" cy="733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" name=""/>
                  <p:cNvSpPr/>
                  <p:nvPr/>
                </p:nvSpPr>
                <p:spPr>
                  <a:xfrm>
                    <a:off x="2210040" y="4267080"/>
                    <a:ext cx="328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5" name=""/>
            <p:cNvGrpSpPr/>
            <p:nvPr/>
          </p:nvGrpSpPr>
          <p:grpSpPr>
            <a:xfrm>
              <a:off x="990720" y="4267080"/>
              <a:ext cx="380880" cy="1004760"/>
              <a:chOff x="990720" y="4267080"/>
              <a:chExt cx="380880" cy="1004760"/>
            </a:xfrm>
          </p:grpSpPr>
          <p:sp>
            <p:nvSpPr>
              <p:cNvPr id="126" name=""/>
              <p:cNvSpPr/>
              <p:nvPr/>
            </p:nvSpPr>
            <p:spPr>
              <a:xfrm>
                <a:off x="990720" y="4267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90720" y="4751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962520" y="41148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34320" y="41148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990720" y="1676520"/>
            <a:ext cx="5943600" cy="1218960"/>
            <a:chOff x="990720" y="1676520"/>
            <a:chExt cx="5943600" cy="1218960"/>
          </a:xfrm>
        </p:grpSpPr>
        <p:grpSp>
          <p:nvGrpSpPr>
            <p:cNvPr id="131" name=""/>
            <p:cNvGrpSpPr/>
            <p:nvPr/>
          </p:nvGrpSpPr>
          <p:grpSpPr>
            <a:xfrm>
              <a:off x="1523880" y="1828440"/>
              <a:ext cx="228600" cy="838080"/>
              <a:chOff x="1523880" y="1828440"/>
              <a:chExt cx="228600" cy="838080"/>
            </a:xfrm>
          </p:grpSpPr>
          <p:sp>
            <p:nvSpPr>
              <p:cNvPr id="132" name=""/>
              <p:cNvSpPr/>
              <p:nvPr/>
            </p:nvSpPr>
            <p:spPr>
              <a:xfrm>
                <a:off x="1523880" y="2404800"/>
                <a:ext cx="2286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1752480" y="182844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990720" y="1752480"/>
              <a:ext cx="380880" cy="1004760"/>
              <a:chOff x="990720" y="1752480"/>
              <a:chExt cx="380880" cy="1004760"/>
            </a:xfrm>
          </p:grpSpPr>
          <p:sp>
            <p:nvSpPr>
              <p:cNvPr id="135" name=""/>
              <p:cNvSpPr/>
              <p:nvPr/>
            </p:nvSpPr>
            <p:spPr>
              <a:xfrm>
                <a:off x="990720" y="1752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990720" y="22366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790960" y="1905120"/>
              <a:ext cx="228960" cy="609480"/>
              <a:chOff x="5790960" y="1905120"/>
              <a:chExt cx="228960" cy="6094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5790960" y="1905120"/>
                <a:ext cx="228960" cy="304560"/>
                <a:chOff x="5790960" y="1905120"/>
                <a:chExt cx="228960" cy="3045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91320" y="1905120"/>
                  <a:ext cx="22860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5790960" y="2057400"/>
                  <a:ext cx="228600" cy="76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791320" y="2133720"/>
                  <a:ext cx="228600" cy="75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5842080" y="2209680"/>
                <a:ext cx="177840" cy="304920"/>
              </a:xfrm>
              <a:custGeom>
                <a:avLst/>
                <a:gdLst/>
                <a:ahLst/>
                <a:rect l="l" t="t" r="r" b="b"/>
                <a:pathLst>
                  <a:path w="160" h="160">
                    <a:moveTo>
                      <a:pt x="112" y="0"/>
                    </a:moveTo>
                    <a:cubicBezTo>
                      <a:pt x="72" y="12"/>
                      <a:pt x="32" y="24"/>
                      <a:pt x="16" y="48"/>
                    </a:cubicBezTo>
                    <a:cubicBezTo>
                      <a:pt x="0" y="72"/>
                      <a:pt x="0" y="128"/>
                      <a:pt x="16" y="144"/>
                    </a:cubicBezTo>
                    <a:cubicBezTo>
                      <a:pt x="32" y="160"/>
                      <a:pt x="88" y="152"/>
                      <a:pt x="112" y="144"/>
                    </a:cubicBezTo>
                    <a:cubicBezTo>
                      <a:pt x="136" y="136"/>
                      <a:pt x="148" y="116"/>
                      <a:pt x="160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133720" y="1828440"/>
              <a:ext cx="228600" cy="838080"/>
              <a:chOff x="2133720" y="1828440"/>
              <a:chExt cx="228600" cy="838080"/>
            </a:xfrm>
          </p:grpSpPr>
          <p:sp>
            <p:nvSpPr>
              <p:cNvPr id="144" name=""/>
              <p:cNvSpPr/>
              <p:nvPr/>
            </p:nvSpPr>
            <p:spPr>
              <a:xfrm>
                <a:off x="2133720" y="2404800"/>
                <a:ext cx="2286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2362320" y="182844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200400" y="1828440"/>
              <a:ext cx="228600" cy="838080"/>
              <a:chOff x="3200400" y="1828440"/>
              <a:chExt cx="228600" cy="838080"/>
            </a:xfrm>
          </p:grpSpPr>
          <p:sp>
            <p:nvSpPr>
              <p:cNvPr id="147" name=""/>
              <p:cNvSpPr/>
              <p:nvPr/>
            </p:nvSpPr>
            <p:spPr>
              <a:xfrm>
                <a:off x="3200400" y="2404800"/>
                <a:ext cx="2286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3429000" y="182844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666880" y="1828440"/>
              <a:ext cx="228600" cy="838080"/>
              <a:chOff x="2666880" y="1828440"/>
              <a:chExt cx="228600" cy="838080"/>
            </a:xfrm>
          </p:grpSpPr>
          <p:sp>
            <p:nvSpPr>
              <p:cNvPr id="150" name=""/>
              <p:cNvSpPr/>
              <p:nvPr/>
            </p:nvSpPr>
            <p:spPr>
              <a:xfrm>
                <a:off x="2666880" y="2404800"/>
                <a:ext cx="2286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2895480" y="182844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105520" y="1828440"/>
              <a:ext cx="228600" cy="838080"/>
              <a:chOff x="5105520" y="1828440"/>
              <a:chExt cx="228600" cy="838080"/>
            </a:xfrm>
          </p:grpSpPr>
          <p:sp>
            <p:nvSpPr>
              <p:cNvPr id="153" name=""/>
              <p:cNvSpPr/>
              <p:nvPr/>
            </p:nvSpPr>
            <p:spPr>
              <a:xfrm>
                <a:off x="5105520" y="2404800"/>
                <a:ext cx="2286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5334120" y="182844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324480" y="1828440"/>
              <a:ext cx="228600" cy="838080"/>
              <a:chOff x="6324480" y="1828440"/>
              <a:chExt cx="228600" cy="838080"/>
            </a:xfrm>
          </p:grpSpPr>
          <p:sp>
            <p:nvSpPr>
              <p:cNvPr id="156" name=""/>
              <p:cNvSpPr/>
              <p:nvPr/>
            </p:nvSpPr>
            <p:spPr>
              <a:xfrm>
                <a:off x="6324480" y="2404800"/>
                <a:ext cx="2286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553080" y="182844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495320" y="1981080"/>
              <a:ext cx="228960" cy="609480"/>
              <a:chOff x="4495320" y="1981080"/>
              <a:chExt cx="228960" cy="6094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4495320" y="1981080"/>
                <a:ext cx="228960" cy="304560"/>
                <a:chOff x="4495320" y="1981080"/>
                <a:chExt cx="228960" cy="30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495680" y="1981080"/>
                  <a:ext cx="22860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495320" y="2133360"/>
                  <a:ext cx="228600" cy="76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495680" y="2209680"/>
                  <a:ext cx="228600" cy="75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4546440" y="2285640"/>
                <a:ext cx="177840" cy="304920"/>
              </a:xfrm>
              <a:custGeom>
                <a:avLst/>
                <a:gdLst/>
                <a:ahLst/>
                <a:rect l="l" t="t" r="r" b="b"/>
                <a:pathLst>
                  <a:path w="160" h="160">
                    <a:moveTo>
                      <a:pt x="112" y="0"/>
                    </a:moveTo>
                    <a:cubicBezTo>
                      <a:pt x="72" y="12"/>
                      <a:pt x="32" y="24"/>
                      <a:pt x="16" y="48"/>
                    </a:cubicBezTo>
                    <a:cubicBezTo>
                      <a:pt x="0" y="72"/>
                      <a:pt x="0" y="128"/>
                      <a:pt x="16" y="144"/>
                    </a:cubicBezTo>
                    <a:cubicBezTo>
                      <a:pt x="32" y="160"/>
                      <a:pt x="88" y="152"/>
                      <a:pt x="112" y="144"/>
                    </a:cubicBezTo>
                    <a:cubicBezTo>
                      <a:pt x="136" y="136"/>
                      <a:pt x="148" y="116"/>
                      <a:pt x="160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962520" y="1676520"/>
              <a:ext cx="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4320" y="1676520"/>
              <a:ext cx="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98288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972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588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9272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297180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152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3100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5032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+ 2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20960" y="52578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518148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2 3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1066680"/>
            <a:ext cx="81532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Label the pitch letter n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1295280"/>
            <a:ext cx="7238880" cy="1143000"/>
            <a:chOff x="914400" y="1295280"/>
            <a:chExt cx="7238880" cy="1143000"/>
          </a:xfrm>
        </p:grpSpPr>
        <p:grpSp>
          <p:nvGrpSpPr>
            <p:cNvPr id="180" name=""/>
            <p:cNvGrpSpPr/>
            <p:nvPr/>
          </p:nvGrpSpPr>
          <p:grpSpPr>
            <a:xfrm>
              <a:off x="914400" y="1447920"/>
              <a:ext cx="7238880" cy="914400"/>
              <a:chOff x="914400" y="1447920"/>
              <a:chExt cx="7238880" cy="91440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4479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14400" y="16765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14400" y="19051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14400" y="21337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14400" y="23623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4038480" y="12952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1523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1752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33720" y="19810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71600" y="22096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2133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43600" y="1905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53080" y="1676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866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800600" y="1447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66680" y="2590920"/>
            <a:ext cx="3581640" cy="685800"/>
            <a:chOff x="1066680" y="2590920"/>
            <a:chExt cx="3581640" cy="685800"/>
          </a:xfrm>
        </p:grpSpPr>
        <p:sp>
          <p:nvSpPr>
            <p:cNvPr id="197" name=""/>
            <p:cNvSpPr/>
            <p:nvPr/>
          </p:nvSpPr>
          <p:spPr>
            <a:xfrm>
              <a:off x="1066680" y="2590920"/>
              <a:ext cx="3581640" cy="685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1297080" y="2666880"/>
              <a:ext cx="3064680" cy="520560"/>
              <a:chOff x="1297080" y="2666880"/>
              <a:chExt cx="3064680" cy="520560"/>
            </a:xfrm>
          </p:grpSpPr>
          <p:sp>
            <p:nvSpPr>
              <p:cNvPr id="199" name=""/>
              <p:cNvSpPr/>
              <p:nvPr/>
            </p:nvSpPr>
            <p:spPr>
              <a:xfrm>
                <a:off x="1297080" y="26668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745360" y="26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059200" y="266688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64680" y="26668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354840" y="26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5029200" y="2590920"/>
            <a:ext cx="2743200" cy="685800"/>
            <a:chOff x="5029200" y="2590920"/>
            <a:chExt cx="2743200" cy="685800"/>
          </a:xfrm>
        </p:grpSpPr>
        <p:sp>
          <p:nvSpPr>
            <p:cNvPr id="205" name=""/>
            <p:cNvSpPr/>
            <p:nvPr/>
          </p:nvSpPr>
          <p:spPr>
            <a:xfrm>
              <a:off x="5029200" y="2590920"/>
              <a:ext cx="2743200" cy="685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183640" y="2666880"/>
              <a:ext cx="2397960" cy="520560"/>
              <a:chOff x="5183640" y="2666880"/>
              <a:chExt cx="2397960" cy="520560"/>
            </a:xfrm>
          </p:grpSpPr>
          <p:sp>
            <p:nvSpPr>
              <p:cNvPr id="207" name=""/>
              <p:cNvSpPr/>
              <p:nvPr/>
            </p:nvSpPr>
            <p:spPr>
              <a:xfrm>
                <a:off x="6555240" y="26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69440" y="26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64720" y="26668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83640" y="26668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228600" y="3886200"/>
            <a:ext cx="69343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remember the order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e no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ing this sent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o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5562720"/>
            <a:ext cx="678168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remember the order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ace no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use they spell the word face 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1219320"/>
            <a:ext cx="807696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Label the pitch letter n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14400" y="1600200"/>
            <a:ext cx="7238880" cy="1523880"/>
            <a:chOff x="914400" y="1600200"/>
            <a:chExt cx="7238880" cy="1523880"/>
          </a:xfrm>
        </p:grpSpPr>
        <p:grpSp>
          <p:nvGrpSpPr>
            <p:cNvPr id="216" name=""/>
            <p:cNvGrpSpPr/>
            <p:nvPr/>
          </p:nvGrpSpPr>
          <p:grpSpPr>
            <a:xfrm>
              <a:off x="914400" y="1905120"/>
              <a:ext cx="7238880" cy="914400"/>
              <a:chOff x="914400" y="1905120"/>
              <a:chExt cx="7238880" cy="914400"/>
            </a:xfrm>
          </p:grpSpPr>
          <p:sp>
            <p:nvSpPr>
              <p:cNvPr id="217" name=""/>
              <p:cNvSpPr/>
              <p:nvPr/>
            </p:nvSpPr>
            <p:spPr>
              <a:xfrm>
                <a:off x="914400" y="19051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14400" y="21337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14400" y="23623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14400" y="25909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14400" y="28195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657600" y="1752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4080" y="2590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38280" y="24382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2480" y="2362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6680" y="22096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4800" y="16002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00600" y="2819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72200" y="2133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19810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43800" y="1905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486400" y="2895480"/>
              <a:ext cx="533520" cy="228600"/>
              <a:chOff x="5486400" y="2895480"/>
              <a:chExt cx="533520" cy="228600"/>
            </a:xfrm>
          </p:grpSpPr>
          <p:sp>
            <p:nvSpPr>
              <p:cNvPr id="233" name=""/>
              <p:cNvSpPr/>
              <p:nvPr/>
            </p:nvSpPr>
            <p:spPr>
              <a:xfrm>
                <a:off x="5638680" y="289548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86400" y="304812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992880" y="3200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78680" y="3200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6480" y="297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64120" y="3200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0280" y="32004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3440" y="3276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40280" y="3276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26440" y="3276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4880" y="3276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74360" y="3048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920" y="297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343400" y="380520"/>
            <a:ext cx="4495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p 3: Get and Set your instr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76520" y="1600200"/>
            <a:ext cx="7238880" cy="4876920"/>
            <a:chOff x="1676520" y="1600200"/>
            <a:chExt cx="7238880" cy="4876920"/>
          </a:xfrm>
        </p:grpSpPr>
        <p:sp>
          <p:nvSpPr>
            <p:cNvPr id="248" name=""/>
            <p:cNvSpPr/>
            <p:nvPr/>
          </p:nvSpPr>
          <p:spPr>
            <a:xfrm>
              <a:off x="1676520" y="1600200"/>
              <a:ext cx="838080" cy="4876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90920" y="1752480"/>
              <a:ext cx="838080" cy="4724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05320" y="1905120"/>
              <a:ext cx="838080" cy="4572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19720" y="2057400"/>
              <a:ext cx="838080" cy="44197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34120" y="2209680"/>
              <a:ext cx="838080" cy="42674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48520" y="2362320"/>
              <a:ext cx="838080" cy="4114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62920" y="2514600"/>
              <a:ext cx="838080" cy="396252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77320" y="2666880"/>
              <a:ext cx="838080" cy="3810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rot="16200000">
            <a:off x="-2125440" y="2885760"/>
            <a:ext cx="58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ivetalk"/>
              </a:rPr>
              <a:t>Line bars from long to short, left to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33640" y="2590920"/>
            <a:ext cx="2457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ivetalk"/>
              </a:rPr>
              <a:t>Xylo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97240" y="4572000"/>
            <a:ext cx="2904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ivetalk"/>
              </a:rPr>
              <a:t>Glockensp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13640" y="3581280"/>
            <a:ext cx="3166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ivetalk"/>
              </a:rPr>
              <a:t>Metallo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43400" y="380520"/>
            <a:ext cx="4495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p 3: Get and Set your instr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6920" y="15228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Jivetalk"/>
              </a:rPr>
              <a:t>Soprano Rec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027440" y="2696040"/>
            <a:ext cx="4269960" cy="3065760"/>
            <a:chOff x="1027440" y="2696040"/>
            <a:chExt cx="4269960" cy="3065760"/>
          </a:xfrm>
        </p:grpSpPr>
        <p:sp>
          <p:nvSpPr>
            <p:cNvPr id="263" name=""/>
            <p:cNvSpPr/>
            <p:nvPr/>
          </p:nvSpPr>
          <p:spPr>
            <a:xfrm rot="18092400">
              <a:off x="2743200" y="1981080"/>
              <a:ext cx="838080" cy="449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092400">
              <a:off x="1424520" y="3117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092400">
              <a:off x="2008800" y="3476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092400">
              <a:off x="2528280" y="3795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092400">
              <a:off x="3048120" y="4114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092400">
              <a:off x="3567600" y="4433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092400">
              <a:off x="4087080" y="4752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092400">
              <a:off x="4606920" y="50709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 rot="18069600">
            <a:off x="457200" y="2437920"/>
            <a:ext cx="838440" cy="838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7225200">
            <a:off x="4647600" y="5202000"/>
            <a:ext cx="1524240" cy="762120"/>
          </a:xfrm>
          <a:custGeom>
            <a:avLst/>
            <a:gdLst>
              <a:gd name="textAreaLeft" fmla="*/ 335160 w 1524240"/>
              <a:gd name="textAreaRight" fmla="*/ 1189080 w 1524240"/>
              <a:gd name="textAreaTop" fmla="*/ 167400 h 762120"/>
              <a:gd name="textAreaBottom" fmla="*/ 5947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371600"/>
            <a:ext cx="1828800" cy="1066680"/>
          </a:xfrm>
          <a:prstGeom prst="wedgeRoundRectCallout">
            <a:avLst>
              <a:gd name="adj1" fmla="val -11199"/>
              <a:gd name="adj2" fmla="val 9285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piece: reed vibrates, creating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4191120"/>
            <a:ext cx="2286000" cy="761760"/>
          </a:xfrm>
          <a:prstGeom prst="wedgeRoundRectCallout">
            <a:avLst>
              <a:gd name="adj1" fmla="val -48958"/>
              <a:gd name="adj2" fmla="val 13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es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14600" y="2514600"/>
            <a:ext cx="1981080" cy="838080"/>
          </a:xfrm>
          <a:prstGeom prst="wedgeRoundRectCallout">
            <a:avLst>
              <a:gd name="adj1" fmla="val -58814"/>
              <a:gd name="adj2" fmla="val 909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ger boa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1905120"/>
            <a:ext cx="28350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pos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43400" y="380520"/>
            <a:ext cx="4495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p 4: Find the pitches on your instr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676520" y="1600200"/>
            <a:ext cx="7238880" cy="4876920"/>
            <a:chOff x="1676520" y="1600200"/>
            <a:chExt cx="7238880" cy="4876920"/>
          </a:xfrm>
        </p:grpSpPr>
        <p:sp>
          <p:nvSpPr>
            <p:cNvPr id="279" name=""/>
            <p:cNvSpPr/>
            <p:nvPr/>
          </p:nvSpPr>
          <p:spPr>
            <a:xfrm>
              <a:off x="1676520" y="1600200"/>
              <a:ext cx="838080" cy="4876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90920" y="1752480"/>
              <a:ext cx="838080" cy="4724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05320" y="1905120"/>
              <a:ext cx="838080" cy="4572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19720" y="2057400"/>
              <a:ext cx="838080" cy="44197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34120" y="2209680"/>
              <a:ext cx="838080" cy="42674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8520" y="2362320"/>
              <a:ext cx="838080" cy="4114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62920" y="2514600"/>
              <a:ext cx="838080" cy="396252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77320" y="2666880"/>
              <a:ext cx="838080" cy="3810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8288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5791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-2132640" y="2894760"/>
            <a:ext cx="56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p 5: Play the pitches in rhythm on your instr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43400" y="380520"/>
            <a:ext cx="4495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p 3: Get and Set your instr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6920" y="38088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Jivetalk"/>
              </a:rPr>
              <a:t>Soprano Rec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28600" y="1600200"/>
            <a:ext cx="838080" cy="5092560"/>
            <a:chOff x="228600" y="1600200"/>
            <a:chExt cx="838080" cy="5092560"/>
          </a:xfrm>
        </p:grpSpPr>
        <p:sp>
          <p:nvSpPr>
            <p:cNvPr id="299" name=""/>
            <p:cNvSpPr/>
            <p:nvPr/>
          </p:nvSpPr>
          <p:spPr>
            <a:xfrm>
              <a:off x="228600" y="1600200"/>
              <a:ext cx="838080" cy="449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3520" y="18288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3520" y="2514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520" y="3124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3520" y="37339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3520" y="4343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520" y="4952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3520" y="5562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3040" y="6172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562720" y="1676520"/>
            <a:ext cx="1218960" cy="5016240"/>
            <a:chOff x="5562720" y="1676520"/>
            <a:chExt cx="1218960" cy="5016240"/>
          </a:xfrm>
        </p:grpSpPr>
        <p:sp>
          <p:nvSpPr>
            <p:cNvPr id="309" name=""/>
            <p:cNvSpPr/>
            <p:nvPr/>
          </p:nvSpPr>
          <p:spPr>
            <a:xfrm>
              <a:off x="5562720" y="1676520"/>
              <a:ext cx="838080" cy="449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67280" y="1905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67280" y="259092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7280" y="3200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67280" y="3809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67280" y="4419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7280" y="5029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67280" y="5638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53080" y="190512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7160" y="6172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523880" y="1600200"/>
            <a:ext cx="838440" cy="5092560"/>
            <a:chOff x="1523880" y="1600200"/>
            <a:chExt cx="838440" cy="5092560"/>
          </a:xfrm>
        </p:grpSpPr>
        <p:grpSp>
          <p:nvGrpSpPr>
            <p:cNvPr id="320" name=""/>
            <p:cNvGrpSpPr/>
            <p:nvPr/>
          </p:nvGrpSpPr>
          <p:grpSpPr>
            <a:xfrm>
              <a:off x="1523880" y="1600200"/>
              <a:ext cx="838440" cy="4495680"/>
              <a:chOff x="1523880" y="1600200"/>
              <a:chExt cx="838440" cy="4495680"/>
            </a:xfrm>
          </p:grpSpPr>
          <p:sp>
            <p:nvSpPr>
              <p:cNvPr id="321" name=""/>
              <p:cNvSpPr/>
              <p:nvPr/>
            </p:nvSpPr>
            <p:spPr>
              <a:xfrm>
                <a:off x="1523880" y="1600200"/>
                <a:ext cx="838440" cy="44956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28800" y="182880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828800" y="251460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828800" y="31240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28800" y="37339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28800" y="4343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28800" y="49528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28800" y="55627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678680" y="6172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819520" y="1600200"/>
            <a:ext cx="838080" cy="5092560"/>
            <a:chOff x="2819520" y="1600200"/>
            <a:chExt cx="838080" cy="5092560"/>
          </a:xfrm>
        </p:grpSpPr>
        <p:sp>
          <p:nvSpPr>
            <p:cNvPr id="331" name=""/>
            <p:cNvSpPr/>
            <p:nvPr/>
          </p:nvSpPr>
          <p:spPr>
            <a:xfrm>
              <a:off x="2819520" y="1600200"/>
              <a:ext cx="838080" cy="449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24080" y="18288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24080" y="25146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2408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24080" y="37339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24080" y="4343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952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24080" y="5562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71800" y="6172200"/>
              <a:ext cx="44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238880" y="1676520"/>
            <a:ext cx="1219320" cy="5016240"/>
            <a:chOff x="7238880" y="1676520"/>
            <a:chExt cx="1219320" cy="5016240"/>
          </a:xfrm>
        </p:grpSpPr>
        <p:grpSp>
          <p:nvGrpSpPr>
            <p:cNvPr id="341" name=""/>
            <p:cNvGrpSpPr/>
            <p:nvPr/>
          </p:nvGrpSpPr>
          <p:grpSpPr>
            <a:xfrm>
              <a:off x="7238880" y="1676520"/>
              <a:ext cx="838080" cy="4495680"/>
              <a:chOff x="7238880" y="1676520"/>
              <a:chExt cx="838080" cy="4495680"/>
            </a:xfrm>
          </p:grpSpPr>
          <p:sp>
            <p:nvSpPr>
              <p:cNvPr id="342" name=""/>
              <p:cNvSpPr/>
              <p:nvPr/>
            </p:nvSpPr>
            <p:spPr>
              <a:xfrm>
                <a:off x="7238880" y="1676520"/>
                <a:ext cx="838080" cy="44956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543800" y="19051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543800" y="25909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3800" y="3200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43800" y="381024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43800" y="44197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543800" y="50292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543800" y="563904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8229600" y="190512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93680" y="6172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enville Schools</cp:lastModifiedBy>
  <dcterms:modified xsi:type="dcterms:W3CDTF">2008-03-04T21:47:1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